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3BB9D-397D-45A0-86BA-C1E8BEB462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C2759-1B60-4DAD-B100-A5D35783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87C10-5B18-4E61-9509-B9E677D0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C2C7A-9C45-4FD2-AF93-C8E0DF0F08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E5C9E-8975-47CB-93DE-E4F3C5CF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1E3E2-EDEB-44F0-8762-62CD192D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F1FBC-1856-49A6-B065-BE081EC4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98CD0-6892-4C62-A600-1C578DAFA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6791A-387A-45EE-97F4-A5B3C750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C72AC-091E-45B5-80CD-0C214937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B7A29-54DB-42D3-A23D-555D2F62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70A23-B61E-427C-ACBC-4F883657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5AE7-2883-49B0-8517-22B6C58E22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878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切除术：用于癌肿广泛浸润并转移、不能完全切除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胃癌，经积极术前准备后拟行胃癌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应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  与疼痛、患者对癌症的恐惧心理、治疗效果和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长期食欲减退、消化吸收不良及癌肿导致的消耗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十二指肠残端破裂、吻合口瘘、胃排空障碍、消化道梗阻、倾倒综合征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给患者口服肠道不吸收的抗生素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晚清洁灌肠，有幽门梗阻的患者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起每晚用温生理盐水洗胃，以减轻胃黏膜的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十二指肠残端破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吻合口破裂或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胃蠕动无力或称胃排空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倾倒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umping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由于胃大部分切除术后，失去对胃排空的控制，导致胃排空过速所产生的一系列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不明确，可能与地域环境与饮食生活习惯、幽门螺杆菌感染、癌前疾病和癌前病变及遗传和基因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胃癌多无明显症状，随病情进展，症状日益加重，常有上腹疼痛、食欲不振、呕吐、乏力、消瘦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胃癌的转移途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胃癌的临床特点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胃癌术后的常见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胃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辅以化疗、放疗、免疫治疗等综合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应缓解患者情绪，改善营养状况，做好胃肠道和呼吸道准备。术后要做好病情观察，胃肠减压管和腹腔引流管的护理，鼓励功能锻炼，给予营养支持，重点预防各种并发症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前开始出现上腹部隐痛不适，进食后明显，伴饱胀感，食欲逐渐下降，无明显恶心、呕吐及呕血，当地医院按“胃炎”进行治疗，稍好转。近半月自觉乏力，体重较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下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近日粪便色黑而就诊，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大便潜血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查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96g/L,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进一步诊治收入院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一般状况尚可，浅表淋巴结未及肿大，皮肤无黄染，结膜甲床苍白，腹平坦，未见胃肠型及蠕动波，腹软，肝脾未及，腹部未及包块，剑突下区域深压痛，移动性浊音（－），肠鸣音正常，直肠指检未及异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钡餐检查：胃窦小弯侧似见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龛影，位于胃轮廓内，周围粘膜僵硬粗糙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未见肝异常，胃肠部分检查不满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胃癌多无明显症状，部分患者可有上腹隐痛、嗳气、反酸、食欲减退等症状，无特异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扩散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纤维胃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螺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幽门螺杆菌感染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良性胃部疾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在胃大部切除后将残胃与十二指肠吻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796000" y="1125360"/>
            <a:ext cx="3168720" cy="4629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/>
          <p:cNvSpPr/>
          <p:nvPr/>
        </p:nvSpPr>
        <p:spPr>
          <a:xfrm>
            <a:off x="6369120" y="595620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I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4991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胃大部切除后残胃与空肠吻合，十二指肠残端关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012000" y="530064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</a:rPr>
              <a:t>II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8829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520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大部切除后胃空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oux-en-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吻合术：即胃大部切除后关闭十二指肠残端，在距十二指肠悬韧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切断空肠，将残胃和远端空肠吻合，距此吻合口以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与空肠近侧断端吻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5530680" y="1268280"/>
            <a:ext cx="3149640" cy="4357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5530680" y="5877000"/>
            <a:ext cx="36133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胃大部切除后胃空肠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Roux-en-Y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吻合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8:39Z</dcterms:modified>
  <cp:revision>87</cp:revision>
  <dc:subject/>
  <dc:title>内科护理学</dc:title>
</cp:coreProperties>
</file>